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877-237F-4813-BB47-FFB8CFDB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4B9-7E0D-489E-806C-8E152463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7D7-2B85-4504-957F-31AA92D6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BD7-4329-460E-B074-402D23BD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BF5C-E838-49E6-8502-A8D9FB9F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DA37-51CB-48C5-8057-24AE442C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A8BD-5EB8-4B38-907B-FE3FDD8A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1A2C-C695-4202-9C9A-0A51AD50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E363-D712-4E53-9D1E-CF4EA4AA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5772-0F08-47C8-9273-25B02F46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CF62-B684-45AC-8E8C-70BEA55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74D-AC1F-4BF6-BD03-96EF52E8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F7BD-3554-4298-9428-A89645E0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3CF5-A734-46F5-81CF-4B7F5875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B70D-5874-4C88-AECD-2E868199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65BF-E413-4446-B42A-900250DC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8EEB-90B2-42D5-9D6D-F44CFF9B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E7A-3C2E-4563-9063-29512C1F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552-D181-4AD0-B84C-65051DAD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A2A-A3A6-48CA-9B98-EA15E3B5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225-1BC6-4CB4-BAD3-19E14B0A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64E-B374-4ED7-BC6D-A38C962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A04-B932-4763-A7A7-A2B768A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439-4936-45C7-8C18-A4A7233B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475B-6966-4557-80F9-1ECB16D3D2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B1E9-D27C-49C1-80F2-507AD0F03D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SIP Federation Special Interest Group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o’s Here, Who’s Missing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anuary 7, 2009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IP Federation Partners (Who’s Here?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e I ESIPs – Data &amp; Info Provid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a Cent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e II ESIPs – Product and Service  Provid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earchers Developing Products (for Research User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e III ESIPs – Earth Science Application Provid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pplication Developers (for non-Research User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e IV ESIPs – Sponso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nd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o’s Here: ESIP Federation Contex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mb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ministrative Committ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Committ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ing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u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162920" y="1676520"/>
            <a:ext cx="1981080" cy="3581280"/>
            <a:chOff x="7162920" y="1676520"/>
            <a:chExt cx="1981080" cy="3581280"/>
          </a:xfrm>
        </p:grpSpPr>
        <p:sp>
          <p:nvSpPr>
            <p:cNvPr id="97" name=""/>
            <p:cNvSpPr/>
            <p:nvPr/>
          </p:nvSpPr>
          <p:spPr>
            <a:xfrm>
              <a:off x="7162920" y="1676520"/>
              <a:ext cx="0" cy="3581280"/>
            </a:xfrm>
            <a:prstGeom prst="line">
              <a:avLst/>
            </a:prstGeom>
            <a:ln w="101520">
              <a:solidFill>
                <a:srgbClr val="0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5200" y="17524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4038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ess F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Who’s Missing?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ology inter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computing centers, software vendors, search engine developers, public 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bro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gital libraries, media, museums, DataNet winners, institutes of sustainabi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 users of environmental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 making bodies, environmental advocacy groups, teac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mentary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ional organizations, NGOs, standards bo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ilanthropic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represented earth scient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logists, geologists, hydrolog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deral A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GS, USDA, DOE, NIH, NS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’s miss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we engag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tential partner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isting partner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 we use existing structures or create new on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11:59Z</dcterms:created>
  <dc:creator> </dc:creator>
  <dc:description/>
  <dc:language>en-US</dc:language>
  <cp:lastModifiedBy> </cp:lastModifiedBy>
  <dcterms:modified xsi:type="dcterms:W3CDTF">2009-01-07T13:22:11Z</dcterms:modified>
  <cp:revision>18</cp:revision>
  <dc:subject/>
  <dc:title>ESIP Federation Special Interest Groups</dc:title>
</cp:coreProperties>
</file>